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D3E-C6AA-46E9-B78D-DE4E1FBA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01A-B0AF-4278-AA81-A8841189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D03-0463-4604-B2CE-388FAE7A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272-E963-46A3-A836-A5973146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C4B3-A7EA-45A5-9561-7015AAF1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C958-4A11-41B3-A88B-EA81E4CC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A298-6AFE-4354-B19D-6E9B2F3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FE9E-6827-4992-874A-7BA75D98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E579-56F9-45B7-9E58-BBBA8A84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A6F8-18E5-48C5-8A63-C0FA48B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532C-1B25-4590-A59A-A1A0A896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6F1-C6BF-476A-A776-C3AA6132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F9DD-FCF6-44CC-8C9A-120B935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73F8-B5C2-42F2-AAC4-7F5449C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1A3-1479-436B-8194-EDFD9529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5C0-E057-410D-BC1E-41A54BFC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79FC-874F-4B15-96E2-865CAD71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1447-DBF8-444F-9D7A-3F34305B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2600-CE1F-4E47-A5B6-9A30517E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B968-42AA-4A51-AB3B-637F91B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0D26-1EB6-4732-9D21-FC2EDB8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1BEC-82DC-49D3-806D-E9323FF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081-355D-4761-BA3C-81FFB4FD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659A-A4A5-4C35-BFB5-CD6F101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827C-B29E-4B0B-9241-E2DB461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A0D7-B990-4BD3-B918-AD4C18F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956A-BB85-4B72-8ABF-9398CE5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4C93-C841-4BC4-A6C7-0E59E160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3212-2F9B-4131-A007-1750B06F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4791-825A-474C-A2C7-854E1632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C533-CB68-4707-8559-0DC4F847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4D47-CF50-433B-AB74-4A0B18C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8E76-1E1A-4745-81D6-4C776AB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3D9-7365-4809-AF4D-0CB4CF2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486A-646C-4398-A8E3-6268436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3015-EE0D-4224-94F5-E3323200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5BA8-6BBA-4544-919D-B67AF3E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D3D9-9DD7-47CD-8CBD-A14FCB95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DF71-AA21-41AD-AE0D-ECB47F4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3FE9-2125-4A81-9407-6A28B5D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DE79-D70D-448C-B64C-D6FE028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5CD9-84D2-4923-8E32-CD406BDE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E5D0-9A4D-46C6-8D74-CEA8F67B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E4B-9250-4880-A4DC-2A269653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859-2FA2-4D56-8DDF-5227CE6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A5C-D7CC-4689-A8B9-1C227DF5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52B-CF11-4863-8386-AA4675A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765-3BBF-4741-A171-70AF7D8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8CA-BDB1-4E9A-87A1-A01B86ECBF79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3264-869E-484B-8D51-610F55AD8456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962-EB54-49AD-BE2A-4C25D506F079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2109-242A-4DD6-A809-0823E27E3849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225360" y="2243160"/>
            <a:ext cx="868680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5071680"/>
            <a:ext cx="64008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ICRIS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CAA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GRAADEC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nstantia"/>
              </a:rPr>
              <a:t>Sikasso, Février 201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Image 2" descr="Basic_logo"/>
          <p:cNvPicPr/>
          <p:nvPr/>
        </p:nvPicPr>
        <p:blipFill>
          <a:blip r:embed="rId2"/>
          <a:stretch/>
        </p:blipFill>
        <p:spPr>
          <a:xfrm>
            <a:off x="171360" y="1071720"/>
            <a:ext cx="2860920" cy="10713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3857760" y="785880"/>
            <a:ext cx="1512720" cy="1241280"/>
            <a:chOff x="3857760" y="785880"/>
            <a:chExt cx="1512720" cy="1241280"/>
          </a:xfrm>
        </p:grpSpPr>
        <p:sp>
          <p:nvSpPr>
            <p:cNvPr id="199" name="Rectangle 12"/>
            <p:cNvSpPr/>
            <p:nvPr/>
          </p:nvSpPr>
          <p:spPr>
            <a:xfrm>
              <a:off x="3857760" y="785880"/>
              <a:ext cx="1512720" cy="12412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WordArt 13"/>
            <p:cNvSpPr txBox="1"/>
            <p:nvPr/>
          </p:nvSpPr>
          <p:spPr>
            <a:xfrm rot="5400000">
              <a:off x="3660120" y="1598040"/>
              <a:ext cx="626040" cy="231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AA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14"/>
            <p:cNvSpPr txBox="1"/>
            <p:nvPr/>
          </p:nvSpPr>
          <p:spPr>
            <a:xfrm rot="5400000">
              <a:off x="4941360" y="983160"/>
              <a:ext cx="626040" cy="231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02" name="Éclair 14"/>
          <p:cNvSpPr/>
          <p:nvPr/>
        </p:nvSpPr>
        <p:spPr>
          <a:xfrm>
            <a:off x="3844800" y="785880"/>
            <a:ext cx="1513080" cy="1241280"/>
          </a:xfrm>
          <a:prstGeom prst="lightningBolt">
            <a:avLst/>
          </a:prstGeom>
          <a:solidFill>
            <a:srgbClr val="0d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t 14"/>
          <p:cNvGraphicFramePr/>
          <p:nvPr/>
        </p:nvGraphicFramePr>
        <p:xfrm>
          <a:off x="7215120" y="785880"/>
          <a:ext cx="151596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5120" y="785880"/>
                    <a:ext cx="15159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ZoneTexte 10"/>
          <p:cNvSpPr/>
          <p:nvPr/>
        </p:nvSpPr>
        <p:spPr>
          <a:xfrm>
            <a:off x="2714760" y="43578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AMPAGN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Résulta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14200" y="2357280"/>
          <a:ext cx="4600800" cy="2733840"/>
        </p:xfrm>
        <a:graphic>
          <a:graphicData uri="http://schemas.openxmlformats.org/drawingml/2006/table">
            <a:tbl>
              <a:tblPr/>
              <a:tblGrid>
                <a:gridCol w="1000080"/>
                <a:gridCol w="1071720"/>
                <a:gridCol w="817560"/>
                <a:gridCol w="901800"/>
                <a:gridCol w="809640"/>
              </a:tblGrid>
              <a:tr h="630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rié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ids gousse(kg/100m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ids fane (kg/100m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mt (gousse en kg/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mt fane en kg/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IAR 19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4"/>
          <p:cNvSpPr/>
          <p:nvPr/>
        </p:nvSpPr>
        <p:spPr>
          <a:xfrm>
            <a:off x="214200" y="18572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sultats de l’essai collectif de Sanakoroboug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508720" y="2330280"/>
          <a:ext cx="3184560" cy="2733840"/>
        </p:xfrm>
        <a:graphic>
          <a:graphicData uri="http://schemas.openxmlformats.org/drawingml/2006/table">
            <a:tbl>
              <a:tblPr/>
              <a:tblGrid>
                <a:gridCol w="863640"/>
                <a:gridCol w="1082520"/>
                <a:gridCol w="1238400"/>
              </a:tblGrid>
              <a:tr h="420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é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ds gsous kg/100 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mt  gous se Kg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86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GV 03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IAR 19B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 che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6"/>
          <p:cNvSpPr/>
          <p:nvPr/>
        </p:nvSpPr>
        <p:spPr>
          <a:xfrm>
            <a:off x="5458320" y="1928880"/>
            <a:ext cx="34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ésultats 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groupement de Fô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8472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Variétés préférées par les groupement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3" descr="D:\Mes images\CAAD\2012\ICRISAT\Field day_Nampossela\DSCN1908.JPG"/>
          <p:cNvPicPr/>
          <p:nvPr/>
        </p:nvPicPr>
        <p:blipFill>
          <a:blip r:embed="rId1"/>
          <a:stretch/>
        </p:blipFill>
        <p:spPr>
          <a:xfrm>
            <a:off x="5811840" y="1714680"/>
            <a:ext cx="3332160" cy="250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D:\Mes images\CAAD\2012\ICRISAT\Field day_Nampossela\DSCN1951.JPG"/>
          <p:cNvPicPr/>
          <p:nvPr/>
        </p:nvPicPr>
        <p:blipFill>
          <a:blip r:embed="rId2"/>
          <a:stretch/>
        </p:blipFill>
        <p:spPr>
          <a:xfrm>
            <a:off x="5857920" y="4394160"/>
            <a:ext cx="3286080" cy="246384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7"/>
          <p:cNvSpPr/>
          <p:nvPr/>
        </p:nvSpPr>
        <p:spPr>
          <a:xfrm>
            <a:off x="571680" y="192888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86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86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91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GV 86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CIAR 19 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8"/>
          <p:cNvSpPr/>
          <p:nvPr/>
        </p:nvSpPr>
        <p:spPr>
          <a:xfrm>
            <a:off x="642960" y="4429080"/>
            <a:ext cx="4286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ritères de p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dement, forme des gousses, goût, précocité, résistance à la sécheres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Contrai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aible niveau de financements pour couvrir la supervision des activité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aible niveau d’équipements (production et transform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ccès difficile aux terres de culture par certaines Femm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ol pauv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1154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Persp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85480" y="1571400"/>
            <a:ext cx="4329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Extension des activités dans d’autres z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Augmentation de production de semences de pré-base et bas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Distribution et vente des semences en petits paque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Amélioration des infrastructures de stockage (surtout de semenc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Renforcement de capacités des Producteurs (trices), Semenciers et Entrepreneur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Renforcer les liens avec les Projets similaires existants (Africa RISING, Feed The Futur, TLII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Image 3" descr="C:\Users\GRADECOM\Desktop\Photos mission AGRA\DSC01348.JPG"/>
          <p:cNvPicPr/>
          <p:nvPr/>
        </p:nvPicPr>
        <p:blipFill>
          <a:blip r:embed="rId1"/>
          <a:stretch/>
        </p:blipFill>
        <p:spPr>
          <a:xfrm>
            <a:off x="4929120" y="2714760"/>
            <a:ext cx="3944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Leçons tiré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500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orte appréciation des Partenaires aux actions du proje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Motivation des différents groupements impliqué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limat d’entente entre les group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’utilisation des semences amélioré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84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Merci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2" descr="D:\Mes images\CAAD\2012\ICRISAT\Field day N'Goukan\DSCN2200.JPG"/>
          <p:cNvPicPr/>
          <p:nvPr/>
        </p:nvPicPr>
        <p:blipFill>
          <a:blip r:embed="rId1"/>
          <a:stretch/>
        </p:blipFill>
        <p:spPr>
          <a:xfrm>
            <a:off x="0" y="2571840"/>
            <a:ext cx="4714920" cy="4286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D:\Mes images\CAAD\2012\ICRISAT\Field day N'Goukan\DSCN2223.JPG"/>
          <p:cNvPicPr/>
          <p:nvPr/>
        </p:nvPicPr>
        <p:blipFill>
          <a:blip r:embed="rId2"/>
          <a:stretch/>
        </p:blipFill>
        <p:spPr>
          <a:xfrm>
            <a:off x="4714920" y="2571840"/>
            <a:ext cx="4429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Zones d’interven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85840" y="2286000"/>
          <a:ext cx="4500360" cy="3200400"/>
        </p:xfrm>
        <a:graphic>
          <a:graphicData uri="http://schemas.openxmlformats.org/drawingml/2006/table">
            <a:tbl>
              <a:tblPr/>
              <a:tblGrid>
                <a:gridCol w="1000080"/>
                <a:gridCol w="1857240"/>
                <a:gridCol w="1643040"/>
              </a:tblGrid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ucture d’app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ka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ugoumousso, Fôh, Zérélani, Nantoumana et Tinzanadoug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ADE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40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uti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aniko, Nampossela, N’Goukan, Banian, M’Peresso, Try I, Finkoloni et Sanankoroboug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09" name="Image 4" descr="C:\Users\Dekoro\AppData\Local\Microsoft\Windows\Temporary Internet Files\Content.Word\20140628_152939.jpg"/>
          <p:cNvPicPr/>
          <p:nvPr/>
        </p:nvPicPr>
        <p:blipFill>
          <a:blip r:embed="rId1"/>
          <a:srcRect l="4804" t="9936" r="-1465" b="27162"/>
          <a:stretch/>
        </p:blipFill>
        <p:spPr>
          <a:xfrm>
            <a:off x="4929120" y="2286000"/>
            <a:ext cx="4000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Collaboration ICRISAT-CAAD et GRAADECOM</a:t>
            </a: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0040" y="246852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but de partenariat: 2012 pour CAAD et 2013 pour GRAADE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Objectif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troduire des variétés améliorées performantes et adaptées d’arachid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velopper un système semencier durab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méliorer les revenus des Femme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00008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Activités menées 2014-2015</a:t>
            </a: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2331720"/>
            <a:ext cx="4614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 SELECTION VARIET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ssais participatif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ssais individuel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sts de démons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- RENFORCEMENT DE CAPAC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D:\Mes images\CAAD\2014\ICRISAT\Visite_mission_Africa rising\DSC04969.JPG"/>
          <p:cNvPicPr/>
          <p:nvPr/>
        </p:nvPicPr>
        <p:blipFill>
          <a:blip r:embed="rId1"/>
          <a:stretch/>
        </p:blipFill>
        <p:spPr>
          <a:xfrm>
            <a:off x="4573440" y="2357280"/>
            <a:ext cx="457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Nombre d’essais participatif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935000"/>
          <a:ext cx="8229600" cy="2662560"/>
        </p:xfrm>
        <a:graphic>
          <a:graphicData uri="http://schemas.openxmlformats.org/drawingml/2006/table">
            <a:tbl>
              <a:tblPr/>
              <a:tblGrid>
                <a:gridCol w="1900080"/>
                <a:gridCol w="13924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é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varié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e Membres/Group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 (Koutia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ADECOM 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Nombre d’essais individue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935000"/>
          <a:ext cx="8229600" cy="2022480"/>
        </p:xfrm>
        <a:graphic>
          <a:graphicData uri="http://schemas.openxmlformats.org/drawingml/2006/table">
            <a:tbl>
              <a:tblPr/>
              <a:tblGrid>
                <a:gridCol w="1900080"/>
                <a:gridCol w="13924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é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varié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e Membres/Group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 (Koutia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ADECOM 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4617b"/>
                </a:solidFill>
                <a:latin typeface="Calibri"/>
              </a:rPr>
              <a:t>Nombre de démonst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35000"/>
          <a:ext cx="8229600" cy="1381320"/>
        </p:xfrm>
        <a:graphic>
          <a:graphicData uri="http://schemas.openxmlformats.org/drawingml/2006/table">
            <a:tbl>
              <a:tblPr/>
              <a:tblGrid>
                <a:gridCol w="1900080"/>
                <a:gridCol w="13924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é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Sikas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varié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bre de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e Membres/Group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AD (Koutia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Renforcement de capacités</a:t>
            </a: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2920" y="1806480"/>
          <a:ext cx="4643280" cy="5035680"/>
        </p:xfrm>
        <a:graphic>
          <a:graphicData uri="http://schemas.openxmlformats.org/drawingml/2006/table">
            <a:tbl>
              <a:tblPr/>
              <a:tblGrid>
                <a:gridCol w="998640"/>
                <a:gridCol w="1501560"/>
                <a:gridCol w="1071720"/>
                <a:gridCol w="1071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utiala (CA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culturales de l’arach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stion de l’aflatox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de stoc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kasso (GRAADECO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culturales de l’arach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stion de l’aflatox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iques de stoc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3" name="Picture 1" descr="DSCN4654"/>
          <p:cNvPicPr/>
          <p:nvPr/>
        </p:nvPicPr>
        <p:blipFill>
          <a:blip r:embed="rId1"/>
          <a:stretch/>
        </p:blipFill>
        <p:spPr>
          <a:xfrm>
            <a:off x="4857840" y="1928880"/>
            <a:ext cx="3786120" cy="2928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4929120" y="18572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alibri"/>
                <a:ea typeface="Arial"/>
              </a:rPr>
              <a:t>Formation sur la gestion de l’aflatox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4617b"/>
                </a:solidFill>
                <a:latin typeface="Calibri"/>
              </a:rPr>
              <a:t>DISSEMINATION D’INFORM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14200" y="2357280"/>
          <a:ext cx="4429080" cy="4214880"/>
        </p:xfrm>
        <a:graphic>
          <a:graphicData uri="http://schemas.openxmlformats.org/drawingml/2006/table">
            <a:tbl>
              <a:tblPr/>
              <a:tblGrid>
                <a:gridCol w="1500480"/>
                <a:gridCol w="1071360"/>
                <a:gridCol w="1143000"/>
                <a:gridCol w="714240"/>
              </a:tblGrid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m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’Gou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mpos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ani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y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’Per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ZoneTexte 4"/>
          <p:cNvSpPr/>
          <p:nvPr/>
        </p:nvSpPr>
        <p:spPr>
          <a:xfrm>
            <a:off x="500040" y="12859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Journée porte ouver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 de broch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a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D:\Mes images\CAAD\2014\ICRISAT\phto jrné recol Try I\DSCN0805.JPG"/>
          <p:cNvPicPr/>
          <p:nvPr/>
        </p:nvPicPr>
        <p:blipFill>
          <a:blip r:embed="rId1"/>
          <a:stretch/>
        </p:blipFill>
        <p:spPr>
          <a:xfrm>
            <a:off x="4786200" y="2286000"/>
            <a:ext cx="43578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2:29:24Z</dcterms:created>
  <dc:creator>Ladji diawara</dc:creator>
  <dc:description/>
  <dc:language>en-US</dc:language>
  <cp:lastModifiedBy>Dekoro</cp:lastModifiedBy>
  <dcterms:modified xsi:type="dcterms:W3CDTF">2015-02-27T08:29:25Z</dcterms:modified>
  <cp:revision>60</cp:revision>
  <dc:subject/>
  <dc:title>Diapositive 1</dc:title>
</cp:coreProperties>
</file>